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EB83F-372A-47D3-91D5-8E123B747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445F1-7388-4A02-BA52-F9D00D971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F1909-D9AF-45A8-A6C1-683531BCB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4CB17-018A-444D-9CC6-4AB89B138B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76078-D684-4BA3-AFCD-6BE46313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6F2C0D-AC7C-4C0B-A094-E212878C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34FE7-78D2-4225-8E6F-2234943D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16972-522F-4185-A3B2-416351EF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C7DED-0577-4CAC-83CE-F2E55D50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C4309-6382-49D1-B11F-F922C843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A3369-26AD-46C0-82D5-200576E1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963B9-2DFC-4636-951B-BB30A8E9E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B31D9-C6E2-4334-A29C-4E86B6EA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9C258-8322-4C9F-86EE-8F2C9A67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CA9AA-462C-4193-984F-395E8888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E7F7F-0EDC-4017-9E1D-11101F5A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B030B-F8A2-4CFA-B487-75A00EC9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1915-67BE-46C3-853D-E22F83931E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DC128-A7F1-474C-B7C2-724E64E9D6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7102D-C827-4282-A5D2-09536A9C7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0E0FE-40D7-41DD-878D-36244CE0B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A12E7-DFFC-42CD-BA2C-F764B691F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25C5A-BC85-430F-B13A-28054B604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AA45-D38A-43B7-AF4A-93DD8BC5D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69E4-1816-4912-BAC2-A922FCC186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8381880" y="6248520"/>
            <a:ext cx="609840" cy="457200"/>
            <a:chOff x="8381880" y="6248520"/>
            <a:chExt cx="609840" cy="457200"/>
          </a:xfrm>
        </p:grpSpPr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381880" y="6248520"/>
              <a:ext cx="609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PlaceHolder 4"/>
            <p:cNvSpPr>
              <a:spLocks noGrp="1"/>
            </p:cNvSpPr>
            <p:nvPr>
              <p:ph type="ftr" idx="2"/>
            </p:nvPr>
          </p:nvSpPr>
          <p:spPr>
            <a:xfrm>
              <a:off x="8381880" y="6248520"/>
              <a:ext cx="609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lstStyle>
              <a:lvl1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  <a:defRPr b="0" lang="en-US" sz="1400" spc="-1" strike="noStrike">
                  <a:solidFill>
                    <a:srgbClr val="000000"/>
                  </a:solidFill>
                  <a:latin typeface="Tahoma"/>
                </a:defRPr>
              </a:lvl1pPr>
            </a:lstStyle>
            <a:p>
              <a: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828800" y="2438280"/>
            <a:ext cx="6172200" cy="4648320"/>
            <a:chOff x="1828800" y="2438280"/>
            <a:chExt cx="6172200" cy="4648320"/>
          </a:xfrm>
        </p:grpSpPr>
        <p:pic>
          <p:nvPicPr>
            <p:cNvPr id="44" name="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1828800" y="2438280"/>
              <a:ext cx="617220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 txBox="1"/>
            <p:nvPr/>
          </p:nvSpPr>
          <p:spPr>
            <a:xfrm>
              <a:off x="1828800" y="2438280"/>
              <a:ext cx="6172200" cy="464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CC13-5957-41EB-BABB-35A3D34589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aint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für Anfäng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os Communication Congr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erlin, 27.-29. Dezember 1998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 oder 100 Mbit/s: Gleiches Protok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me-Typ: Ethernet-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 Byte Adressen, weltweit eindeutig (in der Hardware festgeleg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SMA/CD, “Shared media”, nicht kollisionsfrei, stochastisches Ver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erdings auch “switched Ethernet”, kollisionsfrei (gleiches Protoko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DAB0B-E957-4657-8719-DF09021327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692280" y="1606680"/>
            <a:ext cx="7302600" cy="3788640"/>
            <a:chOff x="692280" y="1606680"/>
            <a:chExt cx="7302600" cy="3788640"/>
          </a:xfrm>
        </p:grpSpPr>
        <p:sp>
          <p:nvSpPr>
            <p:cNvPr id="163" name=""/>
            <p:cNvSpPr/>
            <p:nvPr/>
          </p:nvSpPr>
          <p:spPr>
            <a:xfrm>
              <a:off x="6922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20760" y="4937040"/>
              <a:ext cx="587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 Byte Zieladresse (destination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2362320"/>
              <a:ext cx="0" cy="274320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5105520"/>
              <a:ext cx="152388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149480" y="1606680"/>
            <a:ext cx="5829120" cy="3255480"/>
            <a:chOff x="1149480" y="1606680"/>
            <a:chExt cx="5829120" cy="3255480"/>
          </a:xfrm>
        </p:grpSpPr>
        <p:sp>
          <p:nvSpPr>
            <p:cNvPr id="168" name=""/>
            <p:cNvSpPr/>
            <p:nvPr/>
          </p:nvSpPr>
          <p:spPr>
            <a:xfrm>
              <a:off x="11494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65840" y="4403880"/>
              <a:ext cx="4712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Byte Quelladresse (source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95280" y="2209680"/>
              <a:ext cx="0" cy="24386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95280" y="4648320"/>
              <a:ext cx="99072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6680" y="1606680"/>
            <a:ext cx="6528960" cy="2721960"/>
            <a:chOff x="1606680" y="1606680"/>
            <a:chExt cx="6528960" cy="2721960"/>
          </a:xfrm>
        </p:grpSpPr>
        <p:sp>
          <p:nvSpPr>
            <p:cNvPr id="173" name=""/>
            <p:cNvSpPr/>
            <p:nvPr/>
          </p:nvSpPr>
          <p:spPr>
            <a:xfrm>
              <a:off x="1606680" y="1606680"/>
              <a:ext cx="21564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84560" y="3870360"/>
              <a:ext cx="585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Typ: 0800=IP,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806=ARP, 0835=RAR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76520" y="2209680"/>
              <a:ext cx="0" cy="19051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676160" y="4114800"/>
              <a:ext cx="609480" cy="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11240" y="1600200"/>
            <a:ext cx="6738840" cy="1509120"/>
            <a:chOff x="1911240" y="1600200"/>
            <a:chExt cx="6738840" cy="1509120"/>
          </a:xfrm>
        </p:grpSpPr>
        <p:sp>
          <p:nvSpPr>
            <p:cNvPr id="178" name=""/>
            <p:cNvSpPr/>
            <p:nvPr/>
          </p:nvSpPr>
          <p:spPr>
            <a:xfrm>
              <a:off x="1911240" y="1606680"/>
              <a:ext cx="661680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1600200"/>
              <a:ext cx="533520" cy="45720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114800" y="2057400"/>
              <a:ext cx="457200" cy="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14800" y="2057400"/>
              <a:ext cx="533520" cy="30492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48560" y="2651040"/>
              <a:ext cx="6401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6 - 1500 Bytes Nutzdaten 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MTU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1500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09680" y="1981080"/>
              <a:ext cx="0" cy="8384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214000" y="1606680"/>
            <a:ext cx="6618960" cy="2112480"/>
            <a:chOff x="2214000" y="1606680"/>
            <a:chExt cx="6618960" cy="2112480"/>
          </a:xfrm>
        </p:grpSpPr>
        <p:sp>
          <p:nvSpPr>
            <p:cNvPr id="185" name=""/>
            <p:cNvSpPr/>
            <p:nvPr/>
          </p:nvSpPr>
          <p:spPr>
            <a:xfrm>
              <a:off x="8616960" y="1606680"/>
              <a:ext cx="216000" cy="749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14000" y="3260880"/>
              <a:ext cx="374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CRC (Prüfsumme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38680" y="3505320"/>
              <a:ext cx="30481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686800" y="2209320"/>
              <a:ext cx="0" cy="12956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6560" y="5516640"/>
            <a:ext cx="712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 Datenteil muß notfalls auf 46 Bytes aufgefüll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 (RFC89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751D5-5862-413A-A2EB-322F0176FA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Ethernet-Kab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2, 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G58 Kabel, 50 O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-Verkabelung, T-Stüc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bel muß mit je 50 Ohm terminiert se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85 m /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T us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drillte Pa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568 Cat.3/4/5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Adernpaare (2 genutz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rn-Verkabelung vo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. 90+10 m/Str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hlertolera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und 10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DA786-67F9-44CC-BA50-B7C745D539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762120" y="3276720"/>
            <a:ext cx="4343400" cy="1066680"/>
            <a:chOff x="762120" y="3276720"/>
            <a:chExt cx="4343400" cy="1066680"/>
          </a:xfrm>
        </p:grpSpPr>
        <p:sp>
          <p:nvSpPr>
            <p:cNvPr id="195" name=""/>
            <p:cNvSpPr/>
            <p:nvPr/>
          </p:nvSpPr>
          <p:spPr>
            <a:xfrm>
              <a:off x="762120" y="3276720"/>
              <a:ext cx="609480" cy="1066680"/>
            </a:xfrm>
            <a:prstGeom prst="ellipse">
              <a:avLst/>
            </a:pr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66680" y="3276720"/>
              <a:ext cx="396252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66680" y="4343400"/>
              <a:ext cx="403884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267080" y="2743200"/>
            <a:ext cx="4565520" cy="2718000"/>
            <a:chOff x="4267080" y="2743200"/>
            <a:chExt cx="4565520" cy="2718000"/>
          </a:xfrm>
        </p:grpSpPr>
        <p:sp>
          <p:nvSpPr>
            <p:cNvPr id="199" name=""/>
            <p:cNvSpPr/>
            <p:nvPr/>
          </p:nvSpPr>
          <p:spPr>
            <a:xfrm flipH="1">
              <a:off x="4267080" y="3733560"/>
              <a:ext cx="977760" cy="292320"/>
            </a:xfrm>
            <a:prstGeom prst="parallelogram">
              <a:avLst>
                <a:gd name="adj" fmla="val 83605"/>
              </a:avLst>
            </a:prstGeom>
            <a:solidFill>
              <a:srgbClr val="eaeaea"/>
            </a:solidFill>
            <a:ln w="1260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3848040" y="3695760"/>
              <a:ext cx="2425680" cy="520560"/>
            </a:xfrm>
            <a:prstGeom prst="parallelogram">
              <a:avLst>
                <a:gd name="adj" fmla="val 76390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3760" y="3124080"/>
              <a:ext cx="3035520" cy="20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62560" y="3276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62560" y="3504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2560" y="3733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62560" y="39621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62560" y="41907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62560" y="4419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62560" y="4647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62560" y="4876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59560" y="3195360"/>
              <a:ext cx="473040" cy="22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799880" y="2743200"/>
              <a:ext cx="3568680" cy="368280"/>
            </a:xfrm>
            <a:prstGeom prst="parallelogram">
              <a:avLst>
                <a:gd name="adj" fmla="val 13561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68960" y="1736640"/>
            <a:ext cx="3002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A 568A-Beleg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14240" y="2895120"/>
            <a:ext cx="4648680" cy="686160"/>
            <a:chOff x="2514240" y="2895120"/>
            <a:chExt cx="4648680" cy="686160"/>
          </a:xfrm>
        </p:grpSpPr>
        <p:sp>
          <p:nvSpPr>
            <p:cNvPr id="214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4419360" y="2895480"/>
              <a:ext cx="60948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4419360" y="2895120"/>
              <a:ext cx="533160" cy="38124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876920" y="3581280"/>
              <a:ext cx="228600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4495320" y="3200400"/>
              <a:ext cx="381240" cy="380880"/>
            </a:xfrm>
            <a:prstGeom prst="line">
              <a:avLst/>
            </a:prstGeom>
            <a:ln w="507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14240" y="320040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62600" y="2590920"/>
            <a:ext cx="2117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514240" y="3962520"/>
            <a:ext cx="4648320" cy="380880"/>
            <a:chOff x="2514240" y="3962520"/>
            <a:chExt cx="4648320" cy="380880"/>
          </a:xfrm>
        </p:grpSpPr>
        <p:sp>
          <p:nvSpPr>
            <p:cNvPr id="225" name=""/>
            <p:cNvSpPr/>
            <p:nvPr/>
          </p:nvSpPr>
          <p:spPr>
            <a:xfrm>
              <a:off x="2514600" y="396252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647960" y="40384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5680" y="3962520"/>
              <a:ext cx="152640" cy="759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507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514240" y="3580920"/>
            <a:ext cx="4648680" cy="1143360"/>
            <a:chOff x="2514240" y="3580920"/>
            <a:chExt cx="4648680" cy="1143360"/>
          </a:xfrm>
        </p:grpSpPr>
        <p:sp>
          <p:nvSpPr>
            <p:cNvPr id="235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5076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724280" y="4495680"/>
              <a:ext cx="243864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495320" y="4495680"/>
              <a:ext cx="228600" cy="228600"/>
            </a:xfrm>
            <a:prstGeom prst="line">
              <a:avLst/>
            </a:prstGeom>
            <a:ln w="507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514240" y="4724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514240" y="4724280"/>
            <a:ext cx="4648680" cy="762120"/>
            <a:chOff x="2514240" y="4724280"/>
            <a:chExt cx="4648680" cy="762120"/>
          </a:xfrm>
        </p:grpSpPr>
        <p:sp>
          <p:nvSpPr>
            <p:cNvPr id="245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952520" y="4952880"/>
              <a:ext cx="2210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495680" y="4952880"/>
              <a:ext cx="457200" cy="53352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514240" y="548640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RJ45-Steck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4800600" y="1295280"/>
            <a:ext cx="3962520" cy="1600200"/>
          </a:xfrm>
          <a:prstGeom prst="wedgeRoundRectCallout">
            <a:avLst>
              <a:gd name="adj1" fmla="val -53805"/>
              <a:gd name="adj2" fmla="val 109125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J45-Steck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ick auf die Kontakt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 Rastfeder zeigt nach un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CEF04-2A68-44F9-836B-D1632F77B3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Internet Protoc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vermittel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2 bit Adressen, meist als 1.2.3.4 (dezimal) geschri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17004-E4A5-4931-B050-6CA6FA58B2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Adress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dresse gehört jeweils zu einem Interface. D.h. ein Rechner mit mehreren Netzwerkkarten hat auch mehrere Adress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ten zu groß für den nächsten Hop, werden sie zerlegt (fragmentier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hr Details spä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2F56-2A8D-404C-864E-518372963A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378600" y="571500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 Byte Header, plus Op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92280" y="2062080"/>
            <a:ext cx="7226280" cy="2966760"/>
            <a:chOff x="692280" y="2062080"/>
            <a:chExt cx="7226280" cy="2966760"/>
          </a:xfrm>
        </p:grpSpPr>
        <p:sp>
          <p:nvSpPr>
            <p:cNvPr id="262" name=""/>
            <p:cNvSpPr/>
            <p:nvPr/>
          </p:nvSpPr>
          <p:spPr>
            <a:xfrm>
              <a:off x="6922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66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21080" y="2062080"/>
              <a:ext cx="17398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9880" y="206208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2280" y="266364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49880" y="2663640"/>
              <a:ext cx="52056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22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210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49880" y="3269880"/>
              <a:ext cx="35686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959360" y="2644560"/>
              <a:ext cx="2959200" cy="550800"/>
              <a:chOff x="4959360" y="2644560"/>
              <a:chExt cx="2959200" cy="550800"/>
            </a:xfrm>
          </p:grpSpPr>
          <p:sp>
            <p:nvSpPr>
              <p:cNvPr id="272" name=""/>
              <p:cNvSpPr/>
              <p:nvPr/>
            </p:nvSpPr>
            <p:spPr>
              <a:xfrm>
                <a:off x="4959360" y="2663640"/>
                <a:ext cx="2959200" cy="5317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41960" y="2644560"/>
                <a:ext cx="183960" cy="363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692280" y="449712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2280" y="388764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54840" y="2038320"/>
            <a:ext cx="895320" cy="544680"/>
            <a:chOff x="654840" y="2038320"/>
            <a:chExt cx="895320" cy="544680"/>
          </a:xfrm>
        </p:grpSpPr>
        <p:sp>
          <p:nvSpPr>
            <p:cNvPr id="277" name=""/>
            <p:cNvSpPr/>
            <p:nvPr/>
          </p:nvSpPr>
          <p:spPr>
            <a:xfrm>
              <a:off x="692280" y="2057400"/>
              <a:ext cx="8254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4840" y="2038320"/>
              <a:ext cx="89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499400" y="2038320"/>
            <a:ext cx="1014120" cy="528840"/>
            <a:chOff x="1499400" y="2038320"/>
            <a:chExt cx="1014120" cy="528840"/>
          </a:xfrm>
        </p:grpSpPr>
        <p:sp>
          <p:nvSpPr>
            <p:cNvPr id="280" name=""/>
            <p:cNvSpPr/>
            <p:nvPr/>
          </p:nvSpPr>
          <p:spPr>
            <a:xfrm>
              <a:off x="1606680" y="2057400"/>
              <a:ext cx="825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99400" y="203832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521080" y="2038320"/>
            <a:ext cx="1739880" cy="528840"/>
            <a:chOff x="2521080" y="2038320"/>
            <a:chExt cx="1739880" cy="528840"/>
          </a:xfrm>
        </p:grpSpPr>
        <p:sp>
          <p:nvSpPr>
            <p:cNvPr id="283" name=""/>
            <p:cNvSpPr/>
            <p:nvPr/>
          </p:nvSpPr>
          <p:spPr>
            <a:xfrm>
              <a:off x="2521080" y="2057400"/>
              <a:ext cx="17398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67560" y="2038320"/>
              <a:ext cx="759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349880" y="2038320"/>
            <a:ext cx="3686400" cy="544680"/>
            <a:chOff x="4349880" y="2038320"/>
            <a:chExt cx="3686400" cy="544680"/>
          </a:xfrm>
        </p:grpSpPr>
        <p:sp>
          <p:nvSpPr>
            <p:cNvPr id="286" name=""/>
            <p:cNvSpPr/>
            <p:nvPr/>
          </p:nvSpPr>
          <p:spPr>
            <a:xfrm>
              <a:off x="4349880" y="2057400"/>
              <a:ext cx="35686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11680" y="2038320"/>
              <a:ext cx="3324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esamtlänge (in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06880" y="2666880"/>
            <a:ext cx="3769920" cy="544320"/>
            <a:chOff x="506880" y="2666880"/>
            <a:chExt cx="3769920" cy="544320"/>
          </a:xfrm>
        </p:grpSpPr>
        <p:sp>
          <p:nvSpPr>
            <p:cNvPr id="289" name=""/>
            <p:cNvSpPr/>
            <p:nvPr/>
          </p:nvSpPr>
          <p:spPr>
            <a:xfrm>
              <a:off x="708120" y="26859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6880" y="2666880"/>
              <a:ext cx="3580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ufende Nr. des Pak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215240" y="2647800"/>
            <a:ext cx="3695400" cy="544320"/>
            <a:chOff x="4215240" y="2647800"/>
            <a:chExt cx="3695400" cy="544320"/>
          </a:xfrm>
        </p:grpSpPr>
        <p:sp>
          <p:nvSpPr>
            <p:cNvPr id="292" name=""/>
            <p:cNvSpPr/>
            <p:nvPr/>
          </p:nvSpPr>
          <p:spPr>
            <a:xfrm>
              <a:off x="4341960" y="2666880"/>
              <a:ext cx="5205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15240" y="2647800"/>
              <a:ext cx="872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4951440" y="2647800"/>
              <a:ext cx="2959200" cy="544320"/>
              <a:chOff x="4951440" y="2647800"/>
              <a:chExt cx="2959200" cy="544320"/>
            </a:xfrm>
          </p:grpSpPr>
          <p:sp>
            <p:nvSpPr>
              <p:cNvPr id="295" name=""/>
              <p:cNvSpPr/>
              <p:nvPr/>
            </p:nvSpPr>
            <p:spPr>
              <a:xfrm>
                <a:off x="4951440" y="2666880"/>
                <a:ext cx="295920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149080" y="2647800"/>
                <a:ext cx="2557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ragment-Off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622800" y="3257640"/>
            <a:ext cx="1829520" cy="543960"/>
            <a:chOff x="622800" y="3257640"/>
            <a:chExt cx="1829520" cy="543960"/>
          </a:xfrm>
        </p:grpSpPr>
        <p:sp>
          <p:nvSpPr>
            <p:cNvPr id="298" name=""/>
            <p:cNvSpPr/>
            <p:nvPr/>
          </p:nvSpPr>
          <p:spPr>
            <a:xfrm>
              <a:off x="6843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2800" y="3257640"/>
              <a:ext cx="1829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ime to l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513160" y="3257640"/>
            <a:ext cx="1739880" cy="543960"/>
            <a:chOff x="2513160" y="3257640"/>
            <a:chExt cx="1739880" cy="543960"/>
          </a:xfrm>
        </p:grpSpPr>
        <p:sp>
          <p:nvSpPr>
            <p:cNvPr id="301" name=""/>
            <p:cNvSpPr/>
            <p:nvPr/>
          </p:nvSpPr>
          <p:spPr>
            <a:xfrm>
              <a:off x="25131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55000" y="3257640"/>
              <a:ext cx="1480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toko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229640" y="3257640"/>
            <a:ext cx="3700800" cy="543960"/>
            <a:chOff x="4229640" y="3257640"/>
            <a:chExt cx="3700800" cy="543960"/>
          </a:xfrm>
        </p:grpSpPr>
        <p:sp>
          <p:nvSpPr>
            <p:cNvPr id="304" name=""/>
            <p:cNvSpPr/>
            <p:nvPr/>
          </p:nvSpPr>
          <p:spPr>
            <a:xfrm>
              <a:off x="4341960" y="32763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29640" y="3257640"/>
              <a:ext cx="370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üfsumme ü. d. 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92280" y="388944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ll-IP-Adresse (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2280" y="449892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el-IP-Adresse (dest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5334120"/>
            <a:ext cx="2590920" cy="1143000"/>
          </a:xfrm>
          <a:prstGeom prst="wedgeRoundRectCallout">
            <a:avLst>
              <a:gd name="adj1" fmla="val -19731"/>
              <a:gd name="adj2" fmla="val -315277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sn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 Protoko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5334120"/>
            <a:ext cx="2590920" cy="1143000"/>
          </a:xfrm>
          <a:prstGeom prst="wedgeRoundRectCallout">
            <a:avLst>
              <a:gd name="adj1" fmla="val -87254"/>
              <a:gd name="adj2" fmla="val -310833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änge des Hea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67280" y="5334120"/>
            <a:ext cx="2819520" cy="1066680"/>
          </a:xfrm>
          <a:prstGeom prst="wedgeRoundRectCallout">
            <a:avLst>
              <a:gd name="adj1" fmla="val -144314"/>
              <a:gd name="adj2" fmla="val -325000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7CFC9-0D63-44B3-BB58-FE4EDA5CE0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CMP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rnet Control Message Protoc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Status- und Fehlermel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nutzt ICMP echo request/rep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il von IP (network layer), nutzt aber IP-Pakete zur Datenübertrag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9A815-89CE-4199-80E4-8BA742F128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ddress Resolution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r Zustellung von IP-Paketen im LAN wird die physische (z.B. Ethernet-) Adresse benötig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-Adressen (48 bit) sind weltweit eindeutig in der Hardware “eingebrann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sche IP-Adressen (32 bit) sind vom Netzverwalter festgele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P erlaubt Umsetzu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1DF9-948A-406B-9D93-4ABD9FB401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5120" y="1736640"/>
            <a:ext cx="119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33880" y="1736640"/>
            <a:ext cx="101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905120" y="2041560"/>
            <a:ext cx="5486400" cy="824040"/>
            <a:chOff x="1905120" y="2041560"/>
            <a:chExt cx="5486400" cy="824040"/>
          </a:xfrm>
        </p:grpSpPr>
        <p:sp>
          <p:nvSpPr>
            <p:cNvPr id="321" name=""/>
            <p:cNvSpPr/>
            <p:nvPr/>
          </p:nvSpPr>
          <p:spPr>
            <a:xfrm>
              <a:off x="1905120" y="24382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49040" y="2041560"/>
              <a:ext cx="494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quest (broad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er hat hier IP-Adresse 1.2.3.4?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750680" y="3641760"/>
            <a:ext cx="5868000" cy="1189800"/>
            <a:chOff x="1750680" y="3641760"/>
            <a:chExt cx="5868000" cy="1189800"/>
          </a:xfrm>
        </p:grpSpPr>
        <p:sp>
          <p:nvSpPr>
            <p:cNvPr id="324" name=""/>
            <p:cNvSpPr/>
            <p:nvPr/>
          </p:nvSpPr>
          <p:spPr>
            <a:xfrm>
              <a:off x="1905120" y="4038480"/>
              <a:ext cx="533376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50680" y="3641760"/>
              <a:ext cx="5868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ply (uni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habe IP-Adresse 1.2.3.4, und me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-Adresse ist a.b.c.d.e.f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33880" y="4268880"/>
            <a:ext cx="3041280" cy="1973160"/>
            <a:chOff x="533880" y="4268880"/>
            <a:chExt cx="3041280" cy="1973160"/>
          </a:xfrm>
        </p:grpSpPr>
        <p:sp>
          <p:nvSpPr>
            <p:cNvPr id="327" name=""/>
            <p:cNvSpPr/>
            <p:nvPr/>
          </p:nvSpPr>
          <p:spPr>
            <a:xfrm>
              <a:off x="107316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7240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3880" y="4268880"/>
              <a:ext cx="13708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797440" y="2440080"/>
            <a:ext cx="3043080" cy="5486040"/>
            <a:chOff x="5797440" y="2440080"/>
            <a:chExt cx="3043080" cy="5486040"/>
          </a:xfrm>
        </p:grpSpPr>
        <p:sp>
          <p:nvSpPr>
            <p:cNvPr id="331" name=""/>
            <p:cNvSpPr/>
            <p:nvPr/>
          </p:nvSpPr>
          <p:spPr>
            <a:xfrm>
              <a:off x="579744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9668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69280" y="2440080"/>
              <a:ext cx="1371240" cy="548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2556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525CF-4CD7-4D08-9617-F320442DBA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CE62F-5394-457D-8905-7EAD208811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-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elstes Internet-Protokoll auf Transportebene (Ebene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 - “fire and forge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: z.B. DNS, NF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sätzlich zum 20 Byte IP-Header noch zwei 16 bit Portnummern, 16 bit Länge und eine 16 bit Prüfsum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FF49D-A426-4C7B-B128-8F93980CCB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692280" y="1758960"/>
            <a:ext cx="7226280" cy="596880"/>
            <a:chOff x="692280" y="1758960"/>
            <a:chExt cx="7226280" cy="596880"/>
          </a:xfrm>
        </p:grpSpPr>
        <p:sp>
          <p:nvSpPr>
            <p:cNvPr id="338" name=""/>
            <p:cNvSpPr/>
            <p:nvPr/>
          </p:nvSpPr>
          <p:spPr>
            <a:xfrm>
              <a:off x="692280" y="1758960"/>
              <a:ext cx="722628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2800" y="1828800"/>
              <a:ext cx="4612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92280" y="2444760"/>
            <a:ext cx="7226280" cy="2425680"/>
            <a:chOff x="692280" y="2444760"/>
            <a:chExt cx="7226280" cy="2425680"/>
          </a:xfrm>
        </p:grpSpPr>
        <p:sp>
          <p:nvSpPr>
            <p:cNvPr id="341" name=""/>
            <p:cNvSpPr/>
            <p:nvPr/>
          </p:nvSpPr>
          <p:spPr>
            <a:xfrm>
              <a:off x="6922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98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2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498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2280" y="3968640"/>
              <a:ext cx="7226280" cy="901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81120" y="2422440"/>
            <a:ext cx="3571920" cy="695520"/>
            <a:chOff x="681120" y="2422440"/>
            <a:chExt cx="3571920" cy="695520"/>
          </a:xfrm>
        </p:grpSpPr>
        <p:sp>
          <p:nvSpPr>
            <p:cNvPr id="347" name=""/>
            <p:cNvSpPr/>
            <p:nvPr/>
          </p:nvSpPr>
          <p:spPr>
            <a:xfrm>
              <a:off x="681120" y="244476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78400" y="2422440"/>
              <a:ext cx="3086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ource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208400" y="2438280"/>
            <a:ext cx="3752640" cy="695520"/>
            <a:chOff x="4208400" y="2438280"/>
            <a:chExt cx="3752640" cy="695520"/>
          </a:xfrm>
        </p:grpSpPr>
        <p:sp>
          <p:nvSpPr>
            <p:cNvPr id="350" name=""/>
            <p:cNvSpPr/>
            <p:nvPr/>
          </p:nvSpPr>
          <p:spPr>
            <a:xfrm>
              <a:off x="4343400" y="246060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08400" y="2438280"/>
              <a:ext cx="375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estination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92280" y="3184560"/>
            <a:ext cx="3571920" cy="695160"/>
            <a:chOff x="692280" y="3184560"/>
            <a:chExt cx="3571920" cy="695160"/>
          </a:xfrm>
        </p:grpSpPr>
        <p:sp>
          <p:nvSpPr>
            <p:cNvPr id="353" name=""/>
            <p:cNvSpPr/>
            <p:nvPr/>
          </p:nvSpPr>
          <p:spPr>
            <a:xfrm>
              <a:off x="69228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46560" y="3184560"/>
              <a:ext cx="1773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Lä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338720" y="3184560"/>
            <a:ext cx="3571920" cy="695160"/>
            <a:chOff x="4338720" y="3184560"/>
            <a:chExt cx="3571920" cy="695160"/>
          </a:xfrm>
        </p:grpSpPr>
        <p:sp>
          <p:nvSpPr>
            <p:cNvPr id="356" name=""/>
            <p:cNvSpPr/>
            <p:nvPr/>
          </p:nvSpPr>
          <p:spPr>
            <a:xfrm>
              <a:off x="433872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96280" y="3184560"/>
              <a:ext cx="2576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Prüfsum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81120" y="3946680"/>
            <a:ext cx="7237440" cy="923760"/>
            <a:chOff x="681120" y="3946680"/>
            <a:chExt cx="7237440" cy="923760"/>
          </a:xfrm>
        </p:grpSpPr>
        <p:sp>
          <p:nvSpPr>
            <p:cNvPr id="359" name=""/>
            <p:cNvSpPr/>
            <p:nvPr/>
          </p:nvSpPr>
          <p:spPr>
            <a:xfrm>
              <a:off x="681120" y="3973680"/>
              <a:ext cx="7237440" cy="8967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63840" y="3946680"/>
              <a:ext cx="1687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1752480"/>
            <a:ext cx="7226280" cy="596880"/>
            <a:chOff x="685800" y="1752480"/>
            <a:chExt cx="7226280" cy="596880"/>
          </a:xfrm>
        </p:grpSpPr>
        <p:sp>
          <p:nvSpPr>
            <p:cNvPr id="363" name=""/>
            <p:cNvSpPr/>
            <p:nvPr/>
          </p:nvSpPr>
          <p:spPr>
            <a:xfrm>
              <a:off x="685800" y="1752480"/>
              <a:ext cx="722628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6320" y="1822320"/>
              <a:ext cx="4612320" cy="458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4F603-91A1-43AC-8399-3DB98A3662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r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 und TCP verwenden “Ports” als Erweiterung der IP-Adres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Datenübertragung ist durch 4 Adressen gekennzeichn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l-Adresse, Quel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el-Adresse, Zie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rts beschreiben einen Prozess auf einem Rechn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D6DF6-9EA2-45F2-BAEE-D3852C7C57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orientiert (wie Telef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sicherte Verbindung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es kommt an, in der richtigen Reihenfolge, und nicht doppe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Internet-Anwendungen verwenden TC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itaus komplexer als UD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-Server Modell üb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sucht, Netzüberlast zu verme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4028-1F80-4C59-A810-F0035CCA46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92280" y="1758960"/>
            <a:ext cx="7226280" cy="444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92280" y="2292480"/>
            <a:ext cx="7226280" cy="3797280"/>
            <a:chOff x="692280" y="2292480"/>
            <a:chExt cx="7226280" cy="3797280"/>
          </a:xfrm>
        </p:grpSpPr>
        <p:sp>
          <p:nvSpPr>
            <p:cNvPr id="371" name=""/>
            <p:cNvSpPr/>
            <p:nvPr/>
          </p:nvSpPr>
          <p:spPr>
            <a:xfrm>
              <a:off x="6922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498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2280" y="282564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2280" y="33591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498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22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22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498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2280" y="49593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2280" y="5492880"/>
              <a:ext cx="7226280" cy="596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92280" y="2270160"/>
            <a:ext cx="7270560" cy="466560"/>
            <a:chOff x="692280" y="2270160"/>
            <a:chExt cx="7270560" cy="466560"/>
          </a:xfrm>
        </p:grpSpPr>
        <p:grpSp>
          <p:nvGrpSpPr>
            <p:cNvPr id="382" name=""/>
            <p:cNvGrpSpPr/>
            <p:nvPr/>
          </p:nvGrpSpPr>
          <p:grpSpPr>
            <a:xfrm>
              <a:off x="692280" y="2270160"/>
              <a:ext cx="3571920" cy="466560"/>
              <a:chOff x="692280" y="2270160"/>
              <a:chExt cx="3571920" cy="466560"/>
            </a:xfrm>
          </p:grpSpPr>
          <p:sp>
            <p:nvSpPr>
              <p:cNvPr id="383" name=""/>
              <p:cNvSpPr/>
              <p:nvPr/>
            </p:nvSpPr>
            <p:spPr>
              <a:xfrm>
                <a:off x="69228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89560" y="2270160"/>
                <a:ext cx="3086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ource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210200" y="2270160"/>
              <a:ext cx="3752640" cy="466560"/>
              <a:chOff x="4210200" y="2270160"/>
              <a:chExt cx="3752640" cy="466560"/>
            </a:xfrm>
          </p:grpSpPr>
          <p:sp>
            <p:nvSpPr>
              <p:cNvPr id="386" name=""/>
              <p:cNvSpPr/>
              <p:nvPr/>
            </p:nvSpPr>
            <p:spPr>
              <a:xfrm>
                <a:off x="434484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10200" y="2270160"/>
                <a:ext cx="375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estination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692280" y="2803680"/>
            <a:ext cx="7226280" cy="466560"/>
            <a:chOff x="692280" y="2803680"/>
            <a:chExt cx="7226280" cy="466560"/>
          </a:xfrm>
        </p:grpSpPr>
        <p:sp>
          <p:nvSpPr>
            <p:cNvPr id="389" name=""/>
            <p:cNvSpPr/>
            <p:nvPr/>
          </p:nvSpPr>
          <p:spPr>
            <a:xfrm>
              <a:off x="692280" y="282096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08720" y="2803680"/>
              <a:ext cx="280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92280" y="3336840"/>
            <a:ext cx="7226280" cy="466920"/>
            <a:chOff x="692280" y="3336840"/>
            <a:chExt cx="7226280" cy="466920"/>
          </a:xfrm>
        </p:grpSpPr>
        <p:sp>
          <p:nvSpPr>
            <p:cNvPr id="392" name=""/>
            <p:cNvSpPr/>
            <p:nvPr/>
          </p:nvSpPr>
          <p:spPr>
            <a:xfrm>
              <a:off x="692280" y="33544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74040" y="3336840"/>
              <a:ext cx="408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nowledgemen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51880" y="3870360"/>
            <a:ext cx="1014120" cy="466560"/>
            <a:chOff x="551880" y="3870360"/>
            <a:chExt cx="1014120" cy="466560"/>
          </a:xfrm>
        </p:grpSpPr>
        <p:sp>
          <p:nvSpPr>
            <p:cNvPr id="395" name=""/>
            <p:cNvSpPr/>
            <p:nvPr/>
          </p:nvSpPr>
          <p:spPr>
            <a:xfrm>
              <a:off x="692280" y="3887640"/>
              <a:ext cx="74916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1880" y="387036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319400" y="3870360"/>
            <a:ext cx="1506240" cy="466560"/>
            <a:chOff x="1319400" y="3870360"/>
            <a:chExt cx="1506240" cy="466560"/>
          </a:xfrm>
        </p:grpSpPr>
        <p:sp>
          <p:nvSpPr>
            <p:cNvPr id="398" name=""/>
            <p:cNvSpPr/>
            <p:nvPr/>
          </p:nvSpPr>
          <p:spPr>
            <a:xfrm>
              <a:off x="1509840" y="3887640"/>
              <a:ext cx="115092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19400" y="3870360"/>
              <a:ext cx="1506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ser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727360" y="3870360"/>
            <a:ext cx="1539720" cy="466560"/>
            <a:chOff x="2727360" y="3870360"/>
            <a:chExt cx="1539720" cy="466560"/>
          </a:xfrm>
        </p:grpSpPr>
        <p:grpSp>
          <p:nvGrpSpPr>
            <p:cNvPr id="401" name=""/>
            <p:cNvGrpSpPr/>
            <p:nvPr/>
          </p:nvGrpSpPr>
          <p:grpSpPr>
            <a:xfrm>
              <a:off x="2728800" y="3870360"/>
              <a:ext cx="1532160" cy="466560"/>
              <a:chOff x="2728800" y="3870360"/>
              <a:chExt cx="1532160" cy="466560"/>
            </a:xfrm>
          </p:grpSpPr>
          <p:sp>
            <p:nvSpPr>
              <p:cNvPr id="402" name=""/>
              <p:cNvSpPr/>
              <p:nvPr/>
            </p:nvSpPr>
            <p:spPr>
              <a:xfrm>
                <a:off x="2728800" y="3887640"/>
                <a:ext cx="153216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351240" y="3870360"/>
                <a:ext cx="244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2727360" y="387036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349880" y="3870360"/>
            <a:ext cx="3568680" cy="466560"/>
            <a:chOff x="4349880" y="3870360"/>
            <a:chExt cx="3568680" cy="466560"/>
          </a:xfrm>
        </p:grpSpPr>
        <p:sp>
          <p:nvSpPr>
            <p:cNvPr id="406" name=""/>
            <p:cNvSpPr/>
            <p:nvPr/>
          </p:nvSpPr>
          <p:spPr>
            <a:xfrm>
              <a:off x="4349880" y="388764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27120" y="3870360"/>
              <a:ext cx="1923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dow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92280" y="4403880"/>
            <a:ext cx="3568680" cy="466560"/>
            <a:chOff x="692280" y="4403880"/>
            <a:chExt cx="3568680" cy="466560"/>
          </a:xfrm>
        </p:grpSpPr>
        <p:sp>
          <p:nvSpPr>
            <p:cNvPr id="409" name=""/>
            <p:cNvSpPr/>
            <p:nvPr/>
          </p:nvSpPr>
          <p:spPr>
            <a:xfrm>
              <a:off x="6922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09320" y="4403880"/>
              <a:ext cx="224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 checks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349880" y="4403880"/>
            <a:ext cx="3568680" cy="466560"/>
            <a:chOff x="4349880" y="4403880"/>
            <a:chExt cx="3568680" cy="466560"/>
          </a:xfrm>
        </p:grpSpPr>
        <p:sp>
          <p:nvSpPr>
            <p:cNvPr id="412" name=""/>
            <p:cNvSpPr/>
            <p:nvPr/>
          </p:nvSpPr>
          <p:spPr>
            <a:xfrm>
              <a:off x="43498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45680" y="4403880"/>
              <a:ext cx="2286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rgent 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92280" y="4937040"/>
            <a:ext cx="7226280" cy="466920"/>
            <a:chOff x="692280" y="4937040"/>
            <a:chExt cx="7226280" cy="466920"/>
          </a:xfrm>
        </p:grpSpPr>
        <p:sp>
          <p:nvSpPr>
            <p:cNvPr id="415" name=""/>
            <p:cNvSpPr/>
            <p:nvPr/>
          </p:nvSpPr>
          <p:spPr>
            <a:xfrm>
              <a:off x="692280" y="49546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34360" y="4937040"/>
              <a:ext cx="436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ption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92280" y="5470560"/>
            <a:ext cx="7226280" cy="619200"/>
            <a:chOff x="692280" y="5470560"/>
            <a:chExt cx="7226280" cy="619200"/>
          </a:xfrm>
        </p:grpSpPr>
        <p:sp>
          <p:nvSpPr>
            <p:cNvPr id="418" name=""/>
            <p:cNvSpPr/>
            <p:nvPr/>
          </p:nvSpPr>
          <p:spPr>
            <a:xfrm>
              <a:off x="692280" y="5491080"/>
              <a:ext cx="7226280" cy="598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59120" y="5470560"/>
              <a:ext cx="451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85800" y="1676520"/>
            <a:ext cx="7226280" cy="824040"/>
            <a:chOff x="685800" y="1676520"/>
            <a:chExt cx="7226280" cy="824040"/>
          </a:xfrm>
        </p:grpSpPr>
        <p:sp>
          <p:nvSpPr>
            <p:cNvPr id="422" name=""/>
            <p:cNvSpPr/>
            <p:nvPr/>
          </p:nvSpPr>
          <p:spPr>
            <a:xfrm>
              <a:off x="685800" y="1676520"/>
              <a:ext cx="7226280" cy="527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8080" y="1676520"/>
              <a:ext cx="4513320" cy="824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C50E1-0C12-4DDE-8A0F-CFCB7EA52E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quence / Ack numb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ce number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mer des ersten Bytes in diesem Segment (Flags zählen m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nowledgement num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e Sequence number, die als nächste erwartet w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53BC4-CECA-4105-9577-E5D0059337F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Flag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G - urgent point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 - acknowledgement numb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H - Empfänger soll sofort verarbeiten (pus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ST - Reset der Verbind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 - Verbindungsauf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 - Verbindungsab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13EE1-7569-491B-B829-3CC9A7EBD59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Window siz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 siz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 Empfänger bestimmt, wieviel Daten er noch aufnehmen will (z.B. Puffergröß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nn der Empfänger (wieder) mehr Daten verarbeiten kann, sendet er ein “Window updat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Window size 0 kann nichts mehr gesendet werden, bis der Empfänger sein Window wieder öffnet (window upda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B5BC-4094-4BEF-BFDA-F77D8547D4C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981080" y="2193840"/>
            <a:ext cx="5486400" cy="824040"/>
            <a:chOff x="1981080" y="2193840"/>
            <a:chExt cx="5486400" cy="824040"/>
          </a:xfrm>
        </p:grpSpPr>
        <p:sp>
          <p:nvSpPr>
            <p:cNvPr id="435" name=""/>
            <p:cNvSpPr/>
            <p:nvPr/>
          </p:nvSpPr>
          <p:spPr>
            <a:xfrm>
              <a:off x="1981080" y="259092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94120" y="2193840"/>
              <a:ext cx="4818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981080" y="3413160"/>
            <a:ext cx="5472720" cy="824040"/>
            <a:chOff x="1981080" y="3413160"/>
            <a:chExt cx="5472720" cy="824040"/>
          </a:xfrm>
        </p:grpSpPr>
        <p:sp>
          <p:nvSpPr>
            <p:cNvPr id="438" name=""/>
            <p:cNvSpPr/>
            <p:nvPr/>
          </p:nvSpPr>
          <p:spPr>
            <a:xfrm>
              <a:off x="1981080" y="3809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56680" y="3413160"/>
              <a:ext cx="5397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 + 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. 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981080" y="4632480"/>
            <a:ext cx="5486400" cy="824040"/>
            <a:chOff x="1981080" y="4632480"/>
            <a:chExt cx="5486400" cy="824040"/>
          </a:xfrm>
        </p:grpSpPr>
        <p:sp>
          <p:nvSpPr>
            <p:cNvPr id="441" name=""/>
            <p:cNvSpPr/>
            <p:nvPr/>
          </p:nvSpPr>
          <p:spPr>
            <a:xfrm>
              <a:off x="1981080" y="502920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79520" y="4632480"/>
              <a:ext cx="831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4F745-B779-4069-AC90-81D7AEB474B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981080" y="1812960"/>
            <a:ext cx="5486400" cy="824040"/>
            <a:chOff x="1981080" y="1812960"/>
            <a:chExt cx="5486400" cy="824040"/>
          </a:xfrm>
        </p:grpSpPr>
        <p:sp>
          <p:nvSpPr>
            <p:cNvPr id="449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16320" y="18129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52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70120" y="27273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981080" y="3641760"/>
            <a:ext cx="5486400" cy="824040"/>
            <a:chOff x="1981080" y="3641760"/>
            <a:chExt cx="5486400" cy="824040"/>
          </a:xfrm>
        </p:grpSpPr>
        <p:sp>
          <p:nvSpPr>
            <p:cNvPr id="455" name=""/>
            <p:cNvSpPr/>
            <p:nvPr/>
          </p:nvSpPr>
          <p:spPr>
            <a:xfrm>
              <a:off x="1981080" y="40384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6320" y="36417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981080" y="4556160"/>
            <a:ext cx="5334120" cy="824040"/>
            <a:chOff x="1981080" y="4556160"/>
            <a:chExt cx="5334120" cy="824040"/>
          </a:xfrm>
        </p:grpSpPr>
        <p:sp>
          <p:nvSpPr>
            <p:cNvPr id="458" name=""/>
            <p:cNvSpPr/>
            <p:nvPr/>
          </p:nvSpPr>
          <p:spPr>
            <a:xfrm>
              <a:off x="1981080" y="4952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70120" y="45561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 ste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8FB3-696D-4376-88C7-2FFB44DCF66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-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wicklung seit 1983 (DARP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zentrale Verwalt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 zentraler Knoten (im Gegensatz zu SN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fallsicherheit als Designziel (DO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Paket-per-Pake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A5B2-D51D-42B0-AA76-D72E1A54A1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406880" y="1812960"/>
            <a:ext cx="6194160" cy="824040"/>
            <a:chOff x="1406880" y="1812960"/>
            <a:chExt cx="6194160" cy="824040"/>
          </a:xfrm>
        </p:grpSpPr>
        <p:sp>
          <p:nvSpPr>
            <p:cNvPr id="466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06880" y="181296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69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99680" y="272736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660680" y="4175280"/>
            <a:ext cx="6194160" cy="824040"/>
            <a:chOff x="1660680" y="4175280"/>
            <a:chExt cx="6194160" cy="824040"/>
          </a:xfrm>
        </p:grpSpPr>
        <p:sp>
          <p:nvSpPr>
            <p:cNvPr id="472" name=""/>
            <p:cNvSpPr/>
            <p:nvPr/>
          </p:nvSpPr>
          <p:spPr>
            <a:xfrm>
              <a:off x="1981080" y="457200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60680" y="417528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981080" y="5089680"/>
            <a:ext cx="5486400" cy="824040"/>
            <a:chOff x="1981080" y="5089680"/>
            <a:chExt cx="5486400" cy="824040"/>
          </a:xfrm>
        </p:grpSpPr>
        <p:sp>
          <p:nvSpPr>
            <p:cNvPr id="475" name=""/>
            <p:cNvSpPr/>
            <p:nvPr/>
          </p:nvSpPr>
          <p:spPr>
            <a:xfrm>
              <a:off x="1981080" y="548640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45520" y="508968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b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89021-3B22-40A1-A7E8-05F8BAE16A4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71E8-4C45-4272-AFC9-C4BBAE22E05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-Adressen sind 32 bit organisier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Class-A, Class-B und Class-C Netze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se unterscheiden sich durch die Netzmaske, die angibt, welcher Teil der Adresse das Netz und welcher den Rechner innerhalb des Netzes bezeichn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Entscheidungen werden nur nach dem Netz-Teil der Adresse getroff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B0BF9-E705-42B7-BBF2-BBC6C537884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723240" y="1682640"/>
            <a:ext cx="8033400" cy="596880"/>
            <a:chOff x="723240" y="1682640"/>
            <a:chExt cx="8033400" cy="596880"/>
          </a:xfrm>
        </p:grpSpPr>
        <p:sp>
          <p:nvSpPr>
            <p:cNvPr id="483" name=""/>
            <p:cNvSpPr/>
            <p:nvPr/>
          </p:nvSpPr>
          <p:spPr>
            <a:xfrm>
              <a:off x="723240" y="1736640"/>
              <a:ext cx="1193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39840" y="168264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1636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92880" y="168264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6904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720000" y="2374920"/>
            <a:ext cx="8036640" cy="596880"/>
            <a:chOff x="720000" y="2374920"/>
            <a:chExt cx="8036640" cy="596880"/>
          </a:xfrm>
        </p:grpSpPr>
        <p:sp>
          <p:nvSpPr>
            <p:cNvPr id="489" name=""/>
            <p:cNvSpPr/>
            <p:nvPr/>
          </p:nvSpPr>
          <p:spPr>
            <a:xfrm>
              <a:off x="720000" y="2428920"/>
              <a:ext cx="1197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3984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1636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92880" y="237492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169040" y="23749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724680" y="3060720"/>
            <a:ext cx="8031960" cy="596880"/>
            <a:chOff x="724680" y="3060720"/>
            <a:chExt cx="8031960" cy="596880"/>
          </a:xfrm>
        </p:grpSpPr>
        <p:sp>
          <p:nvSpPr>
            <p:cNvPr id="495" name=""/>
            <p:cNvSpPr/>
            <p:nvPr/>
          </p:nvSpPr>
          <p:spPr>
            <a:xfrm>
              <a:off x="724680" y="3114720"/>
              <a:ext cx="119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3984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1636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92880" y="30607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69040" y="30607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85800" y="4495680"/>
            <a:ext cx="80773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gibt nur wenige Class B und noch weniger Class A Net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C-Netze, oder Blöcke davon, sind das Übli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 Klassen wurden eingeführt, um die Tabellen in den Rou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lein zu hal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ist möglich, die Netzmaske unabhängig von der Klasse frei z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zen, um ein Netz weiter zu unterteilen (subnet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718560" y="3733920"/>
            <a:ext cx="8044560" cy="596880"/>
            <a:chOff x="718560" y="3733920"/>
            <a:chExt cx="8044560" cy="596880"/>
          </a:xfrm>
        </p:grpSpPr>
        <p:sp>
          <p:nvSpPr>
            <p:cNvPr id="503" name=""/>
            <p:cNvSpPr/>
            <p:nvPr/>
          </p:nvSpPr>
          <p:spPr>
            <a:xfrm>
              <a:off x="718560" y="378792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ubn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z.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4632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22840" y="37339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9900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24680" y="3733920"/>
              <a:ext cx="8384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62920" y="3733920"/>
              <a:ext cx="76176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61625"/>
              <a:gd name="adj2" fmla="val 172398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89717"/>
              <a:gd name="adj2" fmla="val 286981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7944"/>
              <a:gd name="adj2" fmla="val 4143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14851"/>
              <a:gd name="adj2" fmla="val 5018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2DF1B-7024-46CB-9DBB-AF5FE37AD58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4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 &amp; 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itweises U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Netz-Teil der Adresse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Host-Teil der Adresse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DA366-1F2F-4540-8FA8-98810856FA8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Ablau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fspalten der Zieladresse in Netz- und Host-Teil (durch AND mit der Netzmask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rchsuchen der Routing-Tabelle nach dem errechneten Netzte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gefunden: An das in der Tabelle eingetragene Interface senden (next ho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st: Zur Default-Route, falls vorhan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onsten: ICMP “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CAC36-2F4D-4E60-8A0D-D0BCC7999AB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Protokolle dienen dazu, die Routingtabellen automatisch zu pflegen, wenn z.B. Wege unpassierbar wer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verschiedene 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P: Fuer LAN geeignet, vie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GP, BGP: Fuer WAN / ASN zu AS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er UNIX in routed (nur RIP) bzw. gated implem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D168-D8C4-45CD-BA26-6332E63EB59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Menschen sind numerische Adressen schwer merkb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sorgt das DNS (Domain Name System) dafür, daß leichter merkbare Namen verwendet werden kö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server bilden eine weltweit verteilte Datenba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2D61-F003-4DAD-8F82-3C9FF608B1B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Namen sind hierarchisch organisier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.B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box.congress.ccc.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nfrage fragt n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? Deutschland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ni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c.de? Chaos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ress.ccc.de?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ongres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at: 195.21.208.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8D2EA-C6F9-4A1D-B077-64D479C8023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s Netz an einer Stelle stark belastet ist (z.B. Übergang vom LAN ins langsamere WAN), gehen Pakete verlor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nun der Sender weiter mit voller Kapazität sendet, wird die Situation nur schlimm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511DC-7E5A-4830-8921-B2B078FBD12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kations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: “RFC” (Request for Comment), numeriert - auf vielen Servern verfügbar, z.B. ftp://rtfm.mit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ch auf der Chaos-CD ent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 Gegensatz zu den ISO/OSI-Protokollen kein “offizieller” Standard, aber weithin akzep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D8DC1-B370-4484-AFB4-6284D4D7DC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 hat zwei Mechanismen zur Vermeidung von Überlast: Slow Start und Congestion Avoid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AE5D9-6207-4F51-B790-1BDA39D7E67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low Star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TCP-Verbindung beginnt nicht, mit der Window-Größe zu senden, die die Gegenseite annonciert, sondern sendet zunächst nur ein Seg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effektive Window-Groesse wird nun mit jedem eingetroffenen ACK um ein weiteres Segment erhöht, bis die Windowgröße erreicht i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882C0-260A-4579-81CF-25A0DAF164D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gestion Avoid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zwischendurch Pakete verlorengehen (erkennbar daran, daß doppelte ACK-Nachrichten eintreffen), wird das fehlende Paket erneut gesendet (retransmi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Datenrate wird dann vermindert und steigt langsam wieder 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BA07C-B12F-4BF5-9722-21B84E2684E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E03C9-725B-49B3-AFEB-18DD1DFB25F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Anwendungen basieren auf TCP, nur wenige auf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-basierend sind NFS (Network File System) und D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8667E-DB45-4A14-86D0-2FFCCBECAC9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: Network File System, entwickelt von Su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 langsam, aber extrem stabil. Das Protokoll ist “stateless”, d.h. alle Status-information liegt nur auf dem Client. Der Server kann zwischendurch neu starten, ohne daß der Client dies normalerweise merk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 Version 2 kann auch TCP verwend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74576-F04A-4139-9D63-B4247920084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NS: Domain Name syst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fragen über UDP bei den Name Servern a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Server antworten ihrerseits per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ceroute: Feststellen, wie meine Daten zum Empfänger komme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r aktuelles Bild, das nächste Paket kann schon einen anderen Weg nehm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9098-80B2-4AA4-B7C2-9E7894E8ECF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net: Terminal-Emulation, log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H: Das “bessere Telnet”, verschlüss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TP: Datei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 Übertragungsprotokoll des WW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TP, POP3: Electronic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E6BF4-A121-4B69-8B57-CB777FBD7BB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F8FC2-3CF6-4349-AEC1-9B32FE2D03E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ses Thema bildet einen besonderen Schwerpunkt morg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hier nur ein knapper Überbli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E9237-6776-4598-A2B5-2DA6B83A16D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C6FB5-15F7-4905-B4D2-D5A8BF74ED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ial of Service: Berechtigte Nutzer können nicht arbei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spähen von Daten durch passives Mitle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fälschen von Daten unterwe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ver Eingriff in Netzknoten (Rechner, Rou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 Spoo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DBB4B-B31C-40E8-9085-C4D5CF64A0E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nial of Servi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od ping usw.: Überlasten eines Netzes oder Rech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mit zu großen Pake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-floo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egale Frag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uht meist auf Fehlern in der IP-Implementierung des angegriffene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EBECC-5915-4F04-8ADD-75C04A55AA8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sspäh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(Sniffer) im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Ethernet einf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ur Fehleranalyse oder Spio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find, tcpdump, RMON-Pro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in WAN-Zwischenstationen, z.B. beim Internet-Prov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-Dateien, z.B. WWW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AB36F-F8A6-4973-86D0-42F7F4817DA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inschleus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schleusen anderer Daten (unter falscher Identitä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Übernahme (hijacking) bestehender Verbindungen, z.B. juggerna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bei applikationsspezifischen Client-Server-Systemen, z.B. Datenban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0B43C-CF89-44EE-A60A-F6879C3205F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Spoof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zen der Quell-Adresse im IP-Header auf eine andere Adres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eine Adresse im angegriffenen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s für weitere Atta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Antwort mög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fache Protokolle, wie SMTP, funktionieren auch ohne Antwort (Antwort vorhersehbar) -&gt; E-Mail Sp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4F648-606C-4F53-B482-F7CAECB4862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Richard Stevens, TCP/IP Illustrated, Addison-Wesley (besonders Vol.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af Kirch, Linux Network Administrators Guide, LDP bzw. O’Rei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uglas Comer, Internetworking with TCP/IP, Prentice-H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76FB9-5590-4CDC-8970-1CC659BD17E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ori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ier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869DC-2C52-4BCD-B46E-A3F9983BC3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01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95360" y="5470560"/>
              <a:ext cx="4545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: Hardware, Gerätetre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59720" y="4273560"/>
            <a:ext cx="6039720" cy="901800"/>
            <a:chOff x="2259720" y="4273560"/>
            <a:chExt cx="6039720" cy="901800"/>
          </a:xfrm>
        </p:grpSpPr>
        <p:sp>
          <p:nvSpPr>
            <p:cNvPr id="104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59720" y="4479840"/>
              <a:ext cx="514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: Paketzustellung, Ro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07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93920" y="3489480"/>
              <a:ext cx="3981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: Paketsich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61880" y="2292480"/>
            <a:ext cx="6037560" cy="901440"/>
            <a:chOff x="2261880" y="2292480"/>
            <a:chExt cx="6037560" cy="901440"/>
          </a:xfrm>
        </p:grpSpPr>
        <p:sp>
          <p:nvSpPr>
            <p:cNvPr id="110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61880" y="2575080"/>
              <a:ext cx="4533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: Benutzerprozes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C0489-BE7F-4C64-A90B-2FBA1A487A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282400" y="5264280"/>
            <a:ext cx="6017040" cy="901440"/>
            <a:chOff x="2282400" y="5264280"/>
            <a:chExt cx="6017040" cy="901440"/>
          </a:xfrm>
        </p:grpSpPr>
        <p:sp>
          <p:nvSpPr>
            <p:cNvPr id="114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2400" y="5470560"/>
              <a:ext cx="597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ink: Netzwerkkarte, Gerätetreiber (AR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292480" y="4273560"/>
            <a:ext cx="6006960" cy="901800"/>
            <a:chOff x="2292480" y="4273560"/>
            <a:chExt cx="6006960" cy="901800"/>
          </a:xfrm>
        </p:grpSpPr>
        <p:sp>
          <p:nvSpPr>
            <p:cNvPr id="117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8440" y="4479840"/>
              <a:ext cx="1411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20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66640" y="3489480"/>
              <a:ext cx="159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292480" y="2292480"/>
            <a:ext cx="6006960" cy="901440"/>
            <a:chOff x="2292480" y="2292480"/>
            <a:chExt cx="6006960" cy="901440"/>
          </a:xfrm>
        </p:grpSpPr>
        <p:sp>
          <p:nvSpPr>
            <p:cNvPr id="123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51520" y="2575080"/>
              <a:ext cx="179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26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98680" y="5470560"/>
              <a:ext cx="7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578480" y="5416560"/>
            <a:ext cx="1739880" cy="673200"/>
            <a:chOff x="4578480" y="5416560"/>
            <a:chExt cx="1739880" cy="673200"/>
          </a:xfrm>
        </p:grpSpPr>
        <p:sp>
          <p:nvSpPr>
            <p:cNvPr id="129" name=""/>
            <p:cNvSpPr/>
            <p:nvPr/>
          </p:nvSpPr>
          <p:spPr>
            <a:xfrm>
              <a:off x="4578480" y="5416560"/>
              <a:ext cx="17398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29960" y="5470560"/>
              <a:ext cx="142236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330960" y="5416560"/>
            <a:ext cx="1847520" cy="673200"/>
            <a:chOff x="6330960" y="5416560"/>
            <a:chExt cx="1847520" cy="673200"/>
          </a:xfrm>
        </p:grpSpPr>
        <p:sp>
          <p:nvSpPr>
            <p:cNvPr id="132" name=""/>
            <p:cNvSpPr/>
            <p:nvPr/>
          </p:nvSpPr>
          <p:spPr>
            <a:xfrm>
              <a:off x="6330960" y="5416560"/>
              <a:ext cx="181620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91800" y="5470560"/>
              <a:ext cx="1786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ken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8480" y="4425840"/>
            <a:ext cx="3568680" cy="673200"/>
            <a:chOff x="4578480" y="4425840"/>
            <a:chExt cx="3568680" cy="673200"/>
          </a:xfrm>
        </p:grpSpPr>
        <p:sp>
          <p:nvSpPr>
            <p:cNvPr id="135" name=""/>
            <p:cNvSpPr/>
            <p:nvPr/>
          </p:nvSpPr>
          <p:spPr>
            <a:xfrm>
              <a:off x="4578480" y="442584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83320" y="4479840"/>
              <a:ext cx="4730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162920" y="4572000"/>
            <a:ext cx="8841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8480" y="3435480"/>
            <a:ext cx="1739880" cy="672840"/>
            <a:chOff x="4578480" y="3435480"/>
            <a:chExt cx="1739880" cy="672840"/>
          </a:xfrm>
        </p:grpSpPr>
        <p:sp>
          <p:nvSpPr>
            <p:cNvPr id="139" name=""/>
            <p:cNvSpPr/>
            <p:nvPr/>
          </p:nvSpPr>
          <p:spPr>
            <a:xfrm>
              <a:off x="45784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75760" y="3489480"/>
              <a:ext cx="73080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407280" y="3435480"/>
            <a:ext cx="1739880" cy="672840"/>
            <a:chOff x="6407280" y="3435480"/>
            <a:chExt cx="1739880" cy="672840"/>
          </a:xfrm>
        </p:grpSpPr>
        <p:sp>
          <p:nvSpPr>
            <p:cNvPr id="142" name=""/>
            <p:cNvSpPr/>
            <p:nvPr/>
          </p:nvSpPr>
          <p:spPr>
            <a:xfrm>
              <a:off x="64072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85840" y="3489480"/>
              <a:ext cx="814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578480" y="2444760"/>
            <a:ext cx="825480" cy="673200"/>
            <a:chOff x="4578480" y="2444760"/>
            <a:chExt cx="825480" cy="673200"/>
          </a:xfrm>
        </p:grpSpPr>
        <p:sp>
          <p:nvSpPr>
            <p:cNvPr id="145" name=""/>
            <p:cNvSpPr/>
            <p:nvPr/>
          </p:nvSpPr>
          <p:spPr>
            <a:xfrm>
              <a:off x="45784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55160" y="2498760"/>
              <a:ext cx="5875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492880" y="2444760"/>
            <a:ext cx="848160" cy="673200"/>
            <a:chOff x="5492880" y="2444760"/>
            <a:chExt cx="848160" cy="673200"/>
          </a:xfrm>
        </p:grpSpPr>
        <p:sp>
          <p:nvSpPr>
            <p:cNvPr id="148" name=""/>
            <p:cNvSpPr/>
            <p:nvPr/>
          </p:nvSpPr>
          <p:spPr>
            <a:xfrm>
              <a:off x="54928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60200" y="2498760"/>
              <a:ext cx="7808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407280" y="2444760"/>
            <a:ext cx="825480" cy="673200"/>
            <a:chOff x="6407280" y="2444760"/>
            <a:chExt cx="825480" cy="673200"/>
          </a:xfrm>
        </p:grpSpPr>
        <p:sp>
          <p:nvSpPr>
            <p:cNvPr id="151" name=""/>
            <p:cNvSpPr/>
            <p:nvPr/>
          </p:nvSpPr>
          <p:spPr>
            <a:xfrm>
              <a:off x="64072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89000" y="2498760"/>
              <a:ext cx="742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315200" y="2438280"/>
            <a:ext cx="878760" cy="673200"/>
            <a:chOff x="7315200" y="2438280"/>
            <a:chExt cx="878760" cy="673200"/>
          </a:xfrm>
        </p:grpSpPr>
        <p:sp>
          <p:nvSpPr>
            <p:cNvPr id="154" name=""/>
            <p:cNvSpPr/>
            <p:nvPr/>
          </p:nvSpPr>
          <p:spPr>
            <a:xfrm>
              <a:off x="7315200" y="2438280"/>
              <a:ext cx="8380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87200" y="2492280"/>
              <a:ext cx="806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638680"/>
            <a:ext cx="7239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886E4-C209-4CF7-A370-0E52BA2366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k Lay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DLC (für WA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AA999-8557-46E3-B509-27B896E13F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6:34Z</dcterms:created>
  <dc:creator>Jan H. Haul</dc:creator>
  <dc:description/>
  <dc:language>en-US</dc:language>
  <cp:lastModifiedBy>Hans-Joachim Haul</cp:lastModifiedBy>
  <cp:lastPrinted>1998-12-25T15:06:52Z</cp:lastPrinted>
  <dcterms:modified xsi:type="dcterms:W3CDTF">1998-12-25T15:07:46Z</dcterms:modified>
  <cp:revision>21</cp:revision>
  <dc:subject/>
  <dc:title>TCP/IP fuer Anfaenger</dc:title>
</cp:coreProperties>
</file>